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8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DFF-CCD7-4D84-9855-E6160EF3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BB2-58B0-41D2-B802-6EB1D4B8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668-223F-4FD6-A376-419720F8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B87-0398-4E44-82AD-10751C45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EE3-5F5D-43C6-B4BF-EBD717C7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498-6975-4405-BF10-C1CDDEB5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ABC-E826-42EE-B446-4E98939D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93B-9723-4CC7-8E90-5325BDE1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2F5-C440-46EC-894C-AC9E54A5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EFD-541F-47CA-9F2A-C75E9095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DD5-A882-4099-AE02-14FCC31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A92-D1F1-46E4-8B9C-212F2036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CA37-CD6E-410C-92E2-E9A6C9175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3520" y="7621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 Small Cap"/>
              </a:rPr>
              <a:t>Hindu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7" descr="vishnu"/>
          <p:cNvPicPr/>
          <p:nvPr/>
        </p:nvPicPr>
        <p:blipFill>
          <a:blip r:embed="rId1"/>
          <a:stretch/>
        </p:blipFill>
        <p:spPr>
          <a:xfrm>
            <a:off x="2819520" y="1600200"/>
            <a:ext cx="31906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228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erpetua"/>
              </a:rPr>
              <a:t>Buddh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838080"/>
            <a:ext cx="9144000" cy="62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ddhism stresses self control &amp; equality for all people – complete opposite of the cas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ddhism also believes in reincarnation &amp; the seeking of a union w/ the divine essence (“nirvana”) – believed that anyone could find nirvana w/o any social or caste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4 Noble Truths – all life is suffering; suffering is caused by desire; there is a way out of suffering; the way out of suffering is the Eightfold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ddhists believe people must follow the “Eightfold Path” to achieve nirv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avada Buddhism emphasizes meditation, simplicity and a renunciation of the “self” – Buddha is not considered a god and gods &amp; goddesses have little signific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hayana Buddhism was much more ritualistic – Buddha was considered a deity &amp; there were priests &amp; priestesses as well as written tex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Nirvana_Kurt_Cobain_005"/>
          <p:cNvPicPr/>
          <p:nvPr/>
        </p:nvPicPr>
        <p:blipFill>
          <a:blip r:embed="rId1"/>
          <a:stretch/>
        </p:blipFill>
        <p:spPr>
          <a:xfrm>
            <a:off x="1219320" y="609480"/>
            <a:ext cx="6200640" cy="4648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990720" y="5410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y following the Eightfold Path, people can reach NIRV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8600" y="304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ddhism – Broade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0880" y="1752480"/>
            <a:ext cx="83822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dhism became widely popular in Asia due to its inclusiveness of all people regardless of gender, class, race or ethnicity – all could reach nirv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dhism is one of the fastest growing religions in the world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0666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doni MT Black"/>
              </a:rPr>
              <a:t>CONFUCI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confucius_5"/>
          <p:cNvPicPr/>
          <p:nvPr/>
        </p:nvPicPr>
        <p:blipFill>
          <a:blip r:embed="rId1"/>
          <a:stretch/>
        </p:blipFill>
        <p:spPr>
          <a:xfrm>
            <a:off x="2895480" y="2438280"/>
            <a:ext cx="3657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5720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lephant"/>
              </a:rPr>
              <a:t>Confucianism - Orig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28600" y="914400"/>
            <a:ext cx="48006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merged out of the Era of Warring States after the fall of the Zhou Dynasty &amp; was developed specifically for Chinese culture in order to reestablish or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ounded by Confucius (551-478 BCE) – an educator &amp; political advisor who was unable to gain high position in gov’t due to his opposition to many gov’t 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nfucius &amp; his followers collected his thoughts &amp; teachings in 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The Analects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– which would have a profound impact on Chinese social &amp; political thou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nfucianism became widely practiced in China after 400 BCE – particularly in the Han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he Han Dynasty based its Civil Service Exam on 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The Anal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confucius2"/>
          <p:cNvPicPr/>
          <p:nvPr/>
        </p:nvPicPr>
        <p:blipFill>
          <a:blip r:embed="rId1"/>
          <a:stretch/>
        </p:blipFill>
        <p:spPr>
          <a:xfrm>
            <a:off x="5715000" y="1447920"/>
            <a:ext cx="3114720" cy="3971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6172200" y="57070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uci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Confucian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4920" y="838080"/>
            <a:ext cx="426708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fucianism is NOT a religion, it is a social &amp; political philosophy based on moral &amp; ethical teach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s main concentration was establishment of political &amp; social order – a practical concern – it was NOT concerned w/ large philosophical issues such as salvation or the afterl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fucius argued that gov’t stability depended on well-educated officials who were able to put aside personal ambition for the good of the state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unzi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sense of kindness (Ren), veneration of ancestors (Xiao or Filial Piety), respect for elders (Li), the family &amp; the patriarchal nature of society were central of Confucianist tho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focus was on FIVE (5) main relationships in which each had specific duties to uphold to maintain ord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uler &amp; Su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arent &amp;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usband &amp; W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lder Brother &amp; Younger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riend &amp; Fri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master"/>
          <p:cNvPicPr/>
          <p:nvPr/>
        </p:nvPicPr>
        <p:blipFill>
          <a:blip r:embed="rId1"/>
          <a:stretch/>
        </p:blipFill>
        <p:spPr>
          <a:xfrm>
            <a:off x="5272200" y="838080"/>
            <a:ext cx="276048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63868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ue of a Junz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04920" y="380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 Black"/>
              </a:rPr>
              <a:t>Confucianism – Broade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2280" y="1287360"/>
            <a:ext cx="43434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B/C Confucianism is NOT a religion, it was widely compatible w/ other religious belief systems – this allowed Confucianism to flourish in Chinese 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Gov’t readily accepted Confucianism in China b/c it was intended to create order &amp; st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Confucianism tended to reinforce many of the existing principles in Chinese society (Patriarchy, Veneration of Ancestors, Respect for Elders, Duties &amp; Responsibilities) &amp; led to extremely tight-knit commu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Confucianism only grew in the context of Chinese society – both politically &amp; socially - though many of its principles are compatible with other cul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Confucian"/>
          <p:cNvPicPr/>
          <p:nvPr/>
        </p:nvPicPr>
        <p:blipFill>
          <a:blip r:embed="rId1"/>
          <a:stretch/>
        </p:blipFill>
        <p:spPr>
          <a:xfrm>
            <a:off x="5410080" y="1752480"/>
            <a:ext cx="3048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121932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pperplate Gothic Bold"/>
              </a:rPr>
              <a:t>Dao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event_38010"/>
          <p:cNvPicPr/>
          <p:nvPr/>
        </p:nvPicPr>
        <p:blipFill>
          <a:blip r:embed="rId1"/>
          <a:stretch/>
        </p:blipFill>
        <p:spPr>
          <a:xfrm>
            <a:off x="2057400" y="1981080"/>
            <a:ext cx="43434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457200" y="3729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 Black"/>
              </a:rPr>
              <a:t>Daoism - Ori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1295280"/>
            <a:ext cx="388620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Daoism also emerged out of the Era of Warring States as a means to end the chaos &amp;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It was founded by Lao-zi (Lao-tsu) sometime in the 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lfae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BCE &amp; became widely practiced in Chinese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Daoism did not reject Confucianism outright, but rather was able to coexist w/ the belief system – this added to the complex nature of Chinese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Lao_Tseu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8088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pperplate Gothic Bold"/>
              </a:rPr>
              <a:t>Dao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28600" y="1143000"/>
            <a:ext cx="464832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Daoism (Taoism) is defined as “The Way” or the “The Way of Nature” &amp; is based on an elusive concept regarding the principles that governed the workings of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The Dao is passive &amp; yielding – yet accomplishes everything – and concentrated on finding a balance in nature (Yin &amp; Ya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Daoist believe that humans should be yielding to “The Way” and that activism &amp; ambition only bring chaos &amp; dis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Humans should disengage from worldly affairs &amp; engage in a life that is in harmony with 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Political involvement &amp; education were UN-necessary in that balance w/ nature would resolve all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Advocated small, self-sufficient commu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Beauty+in+the+nature"/>
          <p:cNvPicPr/>
          <p:nvPr/>
        </p:nvPicPr>
        <p:blipFill>
          <a:blip r:embed="rId1"/>
          <a:stretch/>
        </p:blipFill>
        <p:spPr>
          <a:xfrm>
            <a:off x="5029200" y="1066680"/>
            <a:ext cx="3933720" cy="294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inciensario%20yin%20y%20yan"/>
          <p:cNvPicPr/>
          <p:nvPr/>
        </p:nvPicPr>
        <p:blipFill>
          <a:blip r:embed="rId2"/>
          <a:stretch/>
        </p:blipFill>
        <p:spPr>
          <a:xfrm>
            <a:off x="5715000" y="4267080"/>
            <a:ext cx="23050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094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elix Titling"/>
              </a:rPr>
              <a:t>Hinduism - ori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8600" y="1600200"/>
            <a:ext cx="87631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Originated in India from the literature, traditions &amp; class system of the Aryan invaders – but had NO single fou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Lack of a single founder allowed for evolution over time &amp; a variety of forms of wo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he Hindu religion reinforced the existing caste structure – offering hope for improvement in one’s social position during reincar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Over time Hinduism eventually spawned the Buddhist 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57200" y="457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pperplate Gothic Bold"/>
              </a:rPr>
              <a:t>Daoism – Broade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28600" y="1219320"/>
            <a:ext cx="44956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oist thought coexisted w/ Confucianism to create a belief in communal &amp; civic responsibility along w/ time for personal ref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oism also promoted scientific discovery in nature leading great astronomers, chemists &amp; botan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oism was concentrated mainly in China &amp; led to the complex society that emerged there, but its values have spread beyond China to the wider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any beliefs are compatible or comparable to other relig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" descr="ngc7331_gabany_f"/>
          <p:cNvPicPr/>
          <p:nvPr/>
        </p:nvPicPr>
        <p:blipFill>
          <a:blip r:embed="rId1"/>
          <a:stretch/>
        </p:blipFill>
        <p:spPr>
          <a:xfrm>
            <a:off x="5029200" y="1143000"/>
            <a:ext cx="3905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143000" y="1143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pperplate Gothic Bold"/>
              </a:rPr>
              <a:t>Juda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star-david"/>
          <p:cNvPicPr/>
          <p:nvPr/>
        </p:nvPicPr>
        <p:blipFill>
          <a:blip r:embed="rId1"/>
          <a:stretch/>
        </p:blipFill>
        <p:spPr>
          <a:xfrm>
            <a:off x="3429000" y="2362320"/>
            <a:ext cx="2786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Judaism - Ori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2280" y="446040"/>
            <a:ext cx="43434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Hebrews migrated from the Arabian Peninsula &amp; into Egypt around 1700 BCE – many of whom were enslaved by the Egypt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After Moses led the Hebrews from Egypt in 1300 BCE (Exodus) he was given the Ten Commandments &amp; it was revealed that the Hebrews were God’s chosen peo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Hebrews entered a covenant w/ God in which they were forbidden to worship any other gods &amp; must follow the Ten Command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The Hebrews returned to Israel &amp; established a monarchy which reached its peak under Kings David &amp; Solomon around 1000 B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Israel would be destroyed by the Assyrians &amp; Babylonians and incorporated into the Greek &amp; Roman Empires after 330 BCE – caused the mass migration of much of the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israel_nbr90"/>
          <p:cNvPicPr/>
          <p:nvPr/>
        </p:nvPicPr>
        <p:blipFill>
          <a:blip r:embed="rId1"/>
          <a:stretch/>
        </p:blipFill>
        <p:spPr>
          <a:xfrm>
            <a:off x="4952880" y="533520"/>
            <a:ext cx="3867120" cy="374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moses_with_tablets"/>
          <p:cNvPicPr/>
          <p:nvPr/>
        </p:nvPicPr>
        <p:blipFill>
          <a:blip r:embed="rId2"/>
          <a:stretch/>
        </p:blipFill>
        <p:spPr>
          <a:xfrm>
            <a:off x="6934320" y="4343400"/>
            <a:ext cx="172872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GezerSolomon"/>
          <p:cNvPicPr/>
          <p:nvPr/>
        </p:nvPicPr>
        <p:blipFill>
          <a:blip r:embed="rId3"/>
          <a:stretch/>
        </p:blipFill>
        <p:spPr>
          <a:xfrm>
            <a:off x="4572000" y="45720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3520" y="380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lephant"/>
              </a:rPr>
              <a:t>Juda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135080"/>
            <a:ext cx="441972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onotheism – there is only 1 G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he task of humans is to honor &amp; serve God by following the Laws of Moses as contained in the Torah (The Old Testa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daism is centered around the belief that Hebrews have a unique relationship w/ God as the “chosen peop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hough there are many traditions &amp; rituals associated w/ Judaism, it is also intended to preserve &amp; maintain the identity of a specific people (Jews) – Judaism is a set of religious beliefs AND a set of societal customs designed to hold the Jewish people toge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torah"/>
          <p:cNvPicPr/>
          <p:nvPr/>
        </p:nvPicPr>
        <p:blipFill>
          <a:blip r:embed="rId1"/>
          <a:stretch/>
        </p:blipFill>
        <p:spPr>
          <a:xfrm>
            <a:off x="5791320" y="1295280"/>
            <a:ext cx="29048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80880" y="457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lephant"/>
              </a:rPr>
              <a:t>Judaism – Broade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2280" y="1219320"/>
            <a:ext cx="426744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udaism was the first of the major monotheistic religions (Christianity, Islam, Judais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udaism, Islam &amp; Christianity all have common roots in Abraham &amp; share many similar characteristics &amp;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beliefs of Judaism have been the driving force behind the political establishment &amp; maintenance of the state of Isra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udaism has NO “missionary” belief regarding conversion of non-Jewish people but rather is confined to a very specific people &amp; 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4481640" y="297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9" descr="abraham_and_son"/>
          <p:cNvPicPr/>
          <p:nvPr/>
        </p:nvPicPr>
        <p:blipFill>
          <a:blip r:embed="rId1"/>
          <a:stretch/>
        </p:blipFill>
        <p:spPr>
          <a:xfrm>
            <a:off x="4800600" y="990720"/>
            <a:ext cx="37242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907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elix Titling"/>
              </a:rPr>
              <a:t>Christia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jesus_cross"/>
          <p:cNvPicPr/>
          <p:nvPr/>
        </p:nvPicPr>
        <p:blipFill>
          <a:blip r:embed="rId1"/>
          <a:stretch/>
        </p:blipFill>
        <p:spPr>
          <a:xfrm>
            <a:off x="3581280" y="312408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 Small Cap"/>
              </a:rPr>
              <a:t>Christianity - Ori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2280" y="685800"/>
            <a:ext cx="426744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irst Christians were a splinter group of Jews following the teachings of Jesus Christ – a Jew born in Judea (present-day Isra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irst followers of Jesus were all Jews, but Paul began to spread the beliefs to non-Jews within the Roman Empire after Jesus’ death (around 30 CE) – his followers compiled a body of writings about his life &amp; teachings (New Testam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oman system of roads &amp; communication allowed for Christianity to spread rapidly throughout the empire after 40 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peror Constantine issued the Edict of Milan (313 CE) making Christianity legal in the Roman 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ue to the Silk Roads &amp; later an active missionary movement, Christianity spread to all corners of the gl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RomanRoad"/>
          <p:cNvPicPr/>
          <p:nvPr/>
        </p:nvPicPr>
        <p:blipFill>
          <a:blip r:embed="rId1"/>
          <a:stretch/>
        </p:blipFill>
        <p:spPr>
          <a:xfrm>
            <a:off x="5181480" y="762120"/>
            <a:ext cx="3057480" cy="240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StPaul"/>
          <p:cNvPicPr/>
          <p:nvPr/>
        </p:nvPicPr>
        <p:blipFill>
          <a:blip r:embed="rId2"/>
          <a:stretch/>
        </p:blipFill>
        <p:spPr>
          <a:xfrm>
            <a:off x="5486400" y="3352680"/>
            <a:ext cx="2579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04920" y="228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elix Titling"/>
              </a:rPr>
              <a:t>Christianity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28600" y="838080"/>
            <a:ext cx="449568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notheistic – there is only one God &amp; his Son Je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esus preached devotion to God and love &amp; compassion for fellow human bein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ll classes, genders &amp; races are equal before God &amp; that the faithful would be rewarded with eternal life in heaven w/ God – made the religion very appealing to the lower classes &amp; w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 order to be accepted into heaven, the faithful must accept Jesus Christ as their personal sav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hristians practice a wide variety of rituals intended to show their devotion &amp; fa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any Christian beliefs have evolved into a variety of branches of the same central reli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prayer-hands_large"/>
          <p:cNvPicPr/>
          <p:nvPr/>
        </p:nvPicPr>
        <p:blipFill>
          <a:blip r:embed="rId1"/>
          <a:stretch/>
        </p:blipFill>
        <p:spPr>
          <a:xfrm>
            <a:off x="5638680" y="1066680"/>
            <a:ext cx="250056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_482451_nuns300"/>
          <p:cNvPicPr/>
          <p:nvPr/>
        </p:nvPicPr>
        <p:blipFill>
          <a:blip r:embed="rId2"/>
          <a:stretch/>
        </p:blipFill>
        <p:spPr>
          <a:xfrm>
            <a:off x="5334120" y="44197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2860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rlando"/>
              </a:rPr>
              <a:t>Christianity – Broader Infl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52280" y="1219320"/>
            <a:ext cx="48769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e to its popularity w/ the lower classes &amp; women, by 300 CE Christianity was the most influential religion in the Mediterranean Ba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a period of persecution, Christianity became legal and eventually the official religion of the Rom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ianity would have a huge impact on the European Era of Exploration and the colonization of the Amer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ianity has followers on every continent &amp; in most countries of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of Christianity’s popularity has to do w/ its missionary tradition of spreading the religion to non-Christian people &amp; its historical connection to nation-states i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Missionaries"/>
          <p:cNvPicPr/>
          <p:nvPr/>
        </p:nvPicPr>
        <p:blipFill>
          <a:blip r:embed="rId1"/>
          <a:stretch/>
        </p:blipFill>
        <p:spPr>
          <a:xfrm>
            <a:off x="5105520" y="914400"/>
            <a:ext cx="3790800" cy="2882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28964"/>
          <p:cNvPicPr/>
          <p:nvPr/>
        </p:nvPicPr>
        <p:blipFill>
          <a:blip r:embed="rId2"/>
          <a:stretch/>
        </p:blipFill>
        <p:spPr>
          <a:xfrm>
            <a:off x="5943600" y="4038480"/>
            <a:ext cx="18622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world-top-ten-countries-with-largest-hindu-populations-map"/>
          <p:cNvPicPr/>
          <p:nvPr/>
        </p:nvPicPr>
        <p:blipFill>
          <a:blip r:embed="rId1"/>
          <a:stretch/>
        </p:blipFill>
        <p:spPr>
          <a:xfrm>
            <a:off x="0" y="228600"/>
            <a:ext cx="91756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eb000.greece.k12.ny.us/SocialStudiesResources/Social_Studies_Resources/GHG_Documents/Caste%20System%20Triangle%2006.01.jpg"/>
          <p:cNvPicPr/>
          <p:nvPr/>
        </p:nvPicPr>
        <p:blipFill>
          <a:blip r:embed="rId1"/>
          <a:stretch/>
        </p:blipFill>
        <p:spPr>
          <a:xfrm>
            <a:off x="457200" y="1371600"/>
            <a:ext cx="545292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ste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4" descr="http://filipspagnoli.files.wordpress.com/2008/08/caste.jpg"/>
          <p:cNvPicPr/>
          <p:nvPr/>
        </p:nvPicPr>
        <p:blipFill>
          <a:blip r:embed="rId2"/>
          <a:stretch/>
        </p:blipFill>
        <p:spPr>
          <a:xfrm>
            <a:off x="6019920" y="3973680"/>
            <a:ext cx="27050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ndu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8600" y="838080"/>
            <a:ext cx="84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thing in the world is part of the divine essence “Brahm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du Gods are manifestations of Brahma – namely Vishnu (the preserver); Shiva (the destroy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eaningful life is one that finds union w/ the divine soul – Brahma – through a process of reincarnation where the soul enters another person or ani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s in this life will affect one’s placement in their next life (Kar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s should follow the Dharma – rules &amp; obligations of one’s caste – to improve in their next life until the union w/ Brahma is achieved – Moks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tle are considered sacred – no consumption of be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acred text, thoug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Ved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Upanishad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collections of hymns, prayers &amp; poems – guide Hin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Vishnu"/>
          <p:cNvPicPr/>
          <p:nvPr/>
        </p:nvPicPr>
        <p:blipFill>
          <a:blip r:embed="rId1"/>
          <a:stretch/>
        </p:blipFill>
        <p:spPr>
          <a:xfrm>
            <a:off x="533520" y="304920"/>
            <a:ext cx="3733560" cy="419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shiva"/>
          <p:cNvPicPr/>
          <p:nvPr/>
        </p:nvPicPr>
        <p:blipFill>
          <a:blip r:embed="rId2"/>
          <a:stretch/>
        </p:blipFill>
        <p:spPr>
          <a:xfrm>
            <a:off x="4952880" y="2438280"/>
            <a:ext cx="373392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838080" y="4648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ve – Vish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638680" y="1752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elow- Sh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19320" y="990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 Small Cap"/>
              </a:rPr>
              <a:t>Buddh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BlueLotusBuddha_8"/>
          <p:cNvPicPr/>
          <p:nvPr/>
        </p:nvPicPr>
        <p:blipFill>
          <a:blip r:embed="rId1"/>
          <a:stretch/>
        </p:blipFill>
        <p:spPr>
          <a:xfrm>
            <a:off x="2666880" y="175248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8088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elix Titling"/>
              </a:rPr>
              <a:t>Buddhism - Ori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8600" y="914400"/>
            <a:ext cx="84582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dhism originated in India &amp; was founded by Prince Siddhartha Gautama (563 – 483 BCE) after a 6 year process of meditating about the problems of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utama determined that human desire was the root of all problems &amp; began to spread his belief – he became known as “Buddha” or “The Enlightened O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dha did NOT consider himself a deity or God (though others would) &amp; promoted the idea of a “divine ess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uddha’s death (483 BCE) Buddhism split into 2 large movements – Theravada (Hinayana) Buddhism &amp; Mahayana Budd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sakyamuni"/>
          <p:cNvPicPr/>
          <p:nvPr/>
        </p:nvPicPr>
        <p:blipFill>
          <a:blip r:embed="rId1"/>
          <a:stretch/>
        </p:blipFill>
        <p:spPr>
          <a:xfrm>
            <a:off x="2438280" y="609480"/>
            <a:ext cx="41356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2743200" y="533412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ylfaen"/>
              </a:rPr>
              <a:t>Siddhartha Gauta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20:40:32Z</dcterms:created>
  <dc:creator>Christopher R. Abel</dc:creator>
  <dc:description/>
  <dc:language>en-US</dc:language>
  <cp:lastModifiedBy>hberndt</cp:lastModifiedBy>
  <dcterms:modified xsi:type="dcterms:W3CDTF">2008-12-04T13:38:39Z</dcterms:modified>
  <cp:revision>63</cp:revision>
  <dc:subject/>
  <dc:title>Slide 1</dc:title>
</cp:coreProperties>
</file>